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11B-1A15-489E-BC12-AA6C3670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3B2-B998-40C9-A7B1-E1C701B9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FC7-420A-4B48-BBB9-B38BB11E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021-85DA-4B78-A734-A2BA6B65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F28-F5F4-4D98-9050-D094AC59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749-C195-4AA6-AFB8-169BE185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AF4-0792-4E8E-94A3-A5AB246C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23B-F38D-453E-9B67-26563F85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8D1-B276-4A1F-BECA-0DFD216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E38-E020-4E7E-B7E3-4650476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676-FE73-4F53-8F79-738ABE70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A87-C95E-4507-848F-7781CDF2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92E-7812-497D-9409-75803F4C2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tnam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 War -1959 to 197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Vietnamese and the National Liberation Front (NLF) against the United States forces and the South Vietnamese arm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 gained independence from France during the First Indochina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this war, the country was temporarily divided into North and South Vietn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Vietnam came under the control of Vietnamese Communists who had opposed France and who aimed for a unified Vietnam under Communist ru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was controlled by non-Communist Vietnam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ed States became involved in Vietnam because American policymakers (Politicians) believed that if all of Vietnam fell under a Communist government, Communism would spread throughout Southeast A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government helped to create the anti-Communist South Vietnamese government. This government’s repressive policies led to rebellion in the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was the forming of The National Liberation Front with the aim of overthrowing the government of South Vietnam and reunifying the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5 the United States sent in troops to prevent the South Vietnamese government from collapsing beginning the 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 failed to achieve its goal, and in 1975 Vietnam was reunified under Communist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6 Vietnam officially became the Socialist Republic of Vietn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war, approximately 3.2 million Vietnamese were killed, another 1.5 million to 2 million Lao and Cambodians who were drawn into the war d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ly 58,000 Americans lost their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0:56:32Z</dcterms:created>
  <dc:creator>Sharen Farthing</dc:creator>
  <dc:description/>
  <dc:language>en-US</dc:language>
  <cp:lastModifiedBy>Sharen Farthing</cp:lastModifiedBy>
  <dcterms:modified xsi:type="dcterms:W3CDTF">2008-04-20T21:10:57Z</dcterms:modified>
  <cp:revision>2</cp:revision>
  <dc:subject/>
  <dc:title>Vietnam War</dc:title>
</cp:coreProperties>
</file>